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E4DE-E4D4-4193-A478-590C2290993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5B4E-4ADF-4964-A58A-72571CAB0B4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C261-8CDB-46FC-83F5-F97018C0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77F6-0180-4546-BA81-63475F7C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2307-ED06-4EC4-AC15-CDCC6DFD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2CAB-F509-4292-8E71-B87AAD1F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C3E4-A1A1-4FDE-B7BE-4B0EAF0F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2762-A552-481A-89AE-4BF946D2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82C1-46F6-419B-B7F2-6B819F65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AF88-440B-443E-AD97-F4B30925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7F64-4668-4709-BF3D-2C0349AB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B488-DE84-419E-A1C5-37760920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8D1D-7E4C-41CD-9F5E-AC893845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9CA5-32C4-4536-8948-706A2C0F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8ECA-358E-4A89-A9AD-1DE696C22EA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ítulo 1" descr=""/>
          <p:cNvPicPr/>
          <p:nvPr/>
        </p:nvPicPr>
        <p:blipFill>
          <a:blip r:embed="rId1"/>
          <a:stretch/>
        </p:blipFill>
        <p:spPr>
          <a:xfrm>
            <a:off x="701640" y="208080"/>
            <a:ext cx="7851960" cy="5119560"/>
          </a:xfrm>
          <a:prstGeom prst="rect">
            <a:avLst/>
          </a:prstGeom>
          <a:ln w="0">
            <a:noFill/>
          </a:ln>
        </p:spPr>
      </p:pic>
      <p:sp>
        <p:nvSpPr>
          <p:cNvPr id="49" name="CaixaDeTexto 2"/>
          <p:cNvSpPr/>
          <p:nvPr/>
        </p:nvSpPr>
        <p:spPr>
          <a:xfrm>
            <a:off x="857160" y="4287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OVERNO DO DISTRITO FED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ECRETARIA DE ESTADO DE PLANEJAMENTO E OR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UBSECRETARIA DE OR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6840" y="642600"/>
            <a:ext cx="8258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Exemplos</a:t>
            </a:r>
            <a:r>
              <a:rPr b="0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ção:  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1110 - Execução de Obras de Urbaniza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btítulo: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0001 - Execução de Obras de Urbanização – QNJ 41 – Taguating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ção: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9068 - Apoio à Realização de   Even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0005 - Apoio à Realização de Eventos – Festa do Morango – Brazlâ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71320" y="785520"/>
            <a:ext cx="83581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ção: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1175 – Construção do Salão Comunitá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0010 - Construção do Salão Comunitário – Vicente P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ção: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8502 – Administração de Pesso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0015 - Administração de Pessoal – Secretaria de Saúde – Distrito Fede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28760" y="5716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 regionalização deve indicar a Região Administrativa na qual o gasto está sendo realizad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Exempl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nutenção do prédi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do Anexo do Buriti utilizar regionalização 01 – Plano Pilot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strução de uma escol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no Guará utilizar regionalização 10 – Região XX – Guará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vitalização da DF-085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EPTG utilizar regionalização 99 – Distrito Feder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No caso de despesas de pessoal e concessão de benefíci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Utilizar a regionalização correspondente à lotação física dos servidor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Administração de Pessoal - Secretaria de Estado de Educação – Distrito Fed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Concessão de Benefícios a Servidores – Secretaria de Estado de Educação – Distrito Fed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Concessão de Benefícios a Servidores – Secretaria de Estado de Cultura – Plano Pilo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14200" y="0"/>
            <a:ext cx="850104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ASOS EXCEPCIONA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ecretaria de Estado de Governo, utilizar regionalização 99 – Distrito Federal, pois concentrou a folha de pagamento das RA’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os casos em que os gastos são realizados em mais de uma Administração Regional, utilizar a regionalização 99. Ex: Sec. Educação, Saúde, Seguranç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DECISÕES TCDF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 1378/2006; 5704/2005; 4632/2005; 4632/200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571680"/>
            <a:ext cx="822960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c00000"/>
                </a:solidFill>
                <a:latin typeface="Arial"/>
                <a:ea typeface="Arial"/>
              </a:rPr>
              <a:t>FUNÇÃO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A classificação funcional busca responder basicamente à indagação “em que” área de ação governamental a despesa será realizad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Arial"/>
                <a:ea typeface="Arial"/>
              </a:rPr>
              <a:t>(...) A função está relacionada com a missão institucional do órgão, por exemplo, cultura, educação, saúde, defesa, que guarda relação com os respectivos Ministérios”. (MTO/União 2011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57120" y="428400"/>
            <a:ext cx="83296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No Distrito Federal, </a:t>
            </a:r>
            <a:r>
              <a:rPr b="1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duas possibilidades</a:t>
            </a:r>
            <a:r>
              <a:rPr b="0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Quando a Unidade Orçamentária tiver em sua missão institucional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enas uma função típic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, precípua e preponderante deve construir seus programas de trabalho atrelados a somente essa funçã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Ex: 01.101 - Câmara Legislativa do Distrito Feder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Função:</a:t>
            </a:r>
            <a:r>
              <a:rPr b="1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pt-BR" sz="2600" spc="-1" strike="noStrike">
                <a:solidFill>
                  <a:srgbClr val="006600"/>
                </a:solidFill>
                <a:latin typeface="Arial"/>
                <a:ea typeface="Arial"/>
              </a:rPr>
              <a:t>01 - Legislati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92156"/>
              </a:srgbClr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28760" y="571680"/>
            <a:ext cx="822960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Quando a unidade possuir </a:t>
            </a:r>
            <a:r>
              <a:rPr b="1" lang="pt-BR" sz="2600" spc="-1" strike="noStrike">
                <a:solidFill>
                  <a:srgbClr val="c00000"/>
                </a:solidFill>
                <a:latin typeface="Arial"/>
                <a:ea typeface="Arial"/>
              </a:rPr>
              <a:t>mais de uma função típic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, precípua e preponderante deve construir seus programas de trabalho com base nessas funções típicas e obrigatoriamente utilizar a função 4 (ADMINISTRAÇÃO) para alocação de despesas administrativas, tais como despesas de pessoal e manutenção de instalações físicas, haja vista a dificuldade de segrega-los quando distribuídos entre as funções típica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Ex: 22.101 – Secretaria de Estado de Obras do Distrito Feder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Calibri"/>
              </a:rPr>
              <a:t>Função: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04 - Administraçã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      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15 - Urbanism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              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17 - Saneamento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42876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FUN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m todos os casos, utilizar, quando necessárias, as seguintes funçõ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09 – Previdência Social para o pagamento de inativos e pensionistas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28 – Encargos Especiais para despesas que não possa associar um bem ou serviço a ser gerado no processo produtivo corrente, tais como: dívidas, ressarcimentos, indenizações e outras afins, representando, portanto, uma agregação neutr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85840" y="2428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TABELA FUNÇÃO - MPO.x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oup 4" descr=""/>
          <p:cNvPicPr/>
          <p:nvPr/>
        </p:nvPicPr>
        <p:blipFill>
          <a:blip r:embed="rId1"/>
          <a:stretch/>
        </p:blipFill>
        <p:spPr>
          <a:xfrm>
            <a:off x="281160" y="208080"/>
            <a:ext cx="8729640" cy="6332400"/>
          </a:xfrm>
          <a:prstGeom prst="rect">
            <a:avLst/>
          </a:prstGeom>
          <a:ln w="0">
            <a:noFill/>
          </a:ln>
        </p:spPr>
      </p:pic>
      <p:sp>
        <p:nvSpPr>
          <p:cNvPr id="51" name="CaixaDeTexto 24"/>
          <p:cNvSpPr/>
          <p:nvPr/>
        </p:nvSpPr>
        <p:spPr>
          <a:xfrm>
            <a:off x="1500120" y="214200"/>
            <a:ext cx="657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ff"/>
                </a:solidFill>
                <a:latin typeface="Calibri"/>
              </a:rPr>
              <a:t>CICLO DO PLANEJAMEN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13840" y="285480"/>
            <a:ext cx="8572680" cy="70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Calibri"/>
              </a:rPr>
              <a:t>AÇÕES E SUBTÍTULOS COM DESCRIÇÃO APOIO</a:t>
            </a:r>
            <a:r>
              <a:rPr b="0" lang="pt-BR" sz="26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As despesas relativas as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ações realizadas por meio de transferência de recursos e que não contribuem para a manutenção, expansão ou aperfeiçoamento das ações de governo, das quais não resulta um produto e não geram contraprestação direta sob a forma de bens ou serviços devem ser classificadas como operação especial</a:t>
            </a:r>
            <a:r>
              <a:rPr b="0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.</a:t>
            </a: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(Decisão nº 3523/2008 – TCDF)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Assim, tais ações quando iniciadas com a palavra APOIO</a:t>
            </a: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evem trazer menção expressa de que se trata de despesa realizada mediante transferência de recursos, motivo pelo qual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serão iniciadas com a expressão APOIO FINANCEIRO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essa forma, por tratar-se de operação especial, devem ter o número 9 como primeiro dígito de sua codificação, assumindo o formato 9XXX, além de serem classificadas na função “28 – Encargos Especiais”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14200" y="499680"/>
            <a:ext cx="83584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Nos casos em que as </a:t>
            </a:r>
            <a:r>
              <a:rPr b="1" lang="pt-BR" sz="3000" spc="-1" strike="noStrike" u="sng">
                <a:solidFill>
                  <a:srgbClr val="0000ff"/>
                </a:solidFill>
                <a:uFillTx/>
                <a:latin typeface="Calibri"/>
              </a:rPr>
              <a:t>ações iniciadas com a palavra apoio não forem realizadas por meio de transferência de recursos (modalidades de aplicação 90 e 91), classificá-las obrigatoriamente como atividade e utilizar tão somente a palavra APOIO</a:t>
            </a:r>
            <a:r>
              <a:rPr b="0" lang="pt-BR" sz="3000" spc="-1" strike="noStrike">
                <a:solidFill>
                  <a:srgbClr val="0000ff"/>
                </a:solidFill>
                <a:latin typeface="Calibri"/>
              </a:rPr>
              <a:t>,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visto que no caso de operação especial não deve ser utilizada a modalidade aplicação 90 ou 9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ta forma, é possível a existência de duas ações que tenham como referência o mesmo objeto. A diferença está na forma como o governo apoia sua realização, seja por meio de transferências de recursos (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APOIO FINANCEIRO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) ou pela entrega de serviços e/ou produtos contratados (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APOIO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nexo I.xls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57120" y="428400"/>
            <a:ext cx="84297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00"/>
                </a:solidFill>
                <a:latin typeface="Calibri"/>
              </a:rPr>
              <a:t>ITENS IMPORTANTES A OBSERVAR:</a:t>
            </a:r>
            <a:r>
              <a:rPr b="1" lang="pt-BR" sz="4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1)Evitar a utilização da ação Manutenção de Serviços Administrativos Gerais para qualquer finalidade. Exemplo: despesas com consultoria. A consultoria é específica para determinado objeto, obra ou serviço, devendo, portanto, compor o subtítulo específico para tal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2)Não devem ser utilizadas </a:t>
            </a: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abreviações e siglas,</a:t>
            </a:r>
            <a:r>
              <a:rPr b="0" lang="pt-BR" sz="31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de maneira a trazer clareza e transparência para a destinação do gasto público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00040" y="642960"/>
            <a:ext cx="80726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  <a:ea typeface="Arial"/>
              </a:rPr>
              <a:t>3)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  <a:ea typeface="Arial"/>
              </a:rPr>
              <a:t>Não esquecer de corrigir erros gramaticai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Calibri"/>
                <a:ea typeface="Arial"/>
              </a:rPr>
              <a:t>4)Tomar  cuidado para não alterar os descritores das prioridades da LDO 2012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5)Despesas de exercícios anteriores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00040" y="428400"/>
            <a:ext cx="8158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c00000"/>
                </a:solidFill>
                <a:latin typeface="Arial"/>
                <a:ea typeface="Arial"/>
              </a:rPr>
              <a:t>6) RECURSOS DIRETAMENTE ARRECADADOS  PARA CUSTEIO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receitas diretamente arrecadadas por órgãos, fundos, autarquias, fundações, empresas públicas, sociedades de economia mista e demais empresas em que o Distrito Federal, direta ou indiretamente, detenha a maioria do capital social com direito a voto, </a:t>
            </a:r>
            <a:r>
              <a:rPr b="1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rão programadas para atender, preferencialmente, gastos com pessoal e encargos sociais; amortizações, juros e demais encargos da dívida; contrapartida de financiamentos ou outros encargos de sua manutenção e investimentos prioritário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. (Art.º 18 LDO 201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  <a:ea typeface="Arial"/>
              </a:rPr>
              <a:t>DECISÕES TCDF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652/2011; 4714/2010; 5403/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13840" y="428400"/>
            <a:ext cx="8472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7) ELEMENTO 51 EM ATIVID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m atividade ou operação especial não poderá conter programação para o elemento de despesa 5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0000ff"/>
                </a:solidFill>
                <a:latin typeface="Calibri"/>
              </a:rPr>
              <a:t>Art. 22, III, da PLDO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Na programação de despesas, são vedad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(...)  III - classificação como atividade de dotação para o desenvolvimento de ações limitadas no temp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perações Especiais, as despesas que não contribuem para a manutenção, expansão ou aperfeiçoamento das ações de governo, das quais não resulta um produto, e não geram contraprestação direta sob a forma de bens ou serviço”. (Art. 10, VI PLDO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DECISÃO TCDF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2550/200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28760" y="1714680"/>
            <a:ext cx="814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Propostas com Elemento de Despesa 51 (exemplo: 44.90.51) devem trazer as </a:t>
            </a:r>
            <a:r>
              <a:rPr b="1" lang="pt-BR" sz="3600" spc="-1" strike="noStrike" u="sng">
                <a:solidFill>
                  <a:srgbClr val="0000ff"/>
                </a:solidFill>
                <a:uFillTx/>
                <a:latin typeface="Calibri"/>
              </a:rPr>
              <a:t>datas de início e término</a:t>
            </a:r>
            <a:r>
              <a:rPr b="0" lang="pt-BR" sz="3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da execução do Subtítulo (o período não deve se restringir a apenas o ano em referência (2012), mas ao cronograma físico financeiro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Calibri"/>
              </a:rPr>
              <a:t>DECISÃO TCDF: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3352/2004, 4065/2003, 6098/200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aixaDeTexto 3"/>
          <p:cNvSpPr/>
          <p:nvPr/>
        </p:nvSpPr>
        <p:spPr>
          <a:xfrm>
            <a:off x="428760" y="428760"/>
            <a:ext cx="80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8) DEMONSTRATIVO DO INÍCIO E TÉRMINO DA  PROGRAMAÇ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13840" y="285480"/>
            <a:ext cx="857268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9) SUBFUNÇÕES OCA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rts. 26 e 37 LDO Exigência Leg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rt. 227 C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Lei nº 8.069/199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s subfunções relacionados à criança e ao adolesc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243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ASSISTÊNCIA À CRIANÇA E AO ADOLESC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1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FUNDAM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2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MÉD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3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PROFISS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5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DUCAÇÃO INFANT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7: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DUCAÇÃO ESPE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71320" y="500040"/>
            <a:ext cx="81435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0) CADASTRAMENTO DE CONVÊNIOS E OPERAÇÕES DE CRÉD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ompatibilizar as informações constantes da  tela “Lista Cadastramento de Convênios e Operações de Crédito” e “Cadastramentos das Aplicações – Fiscal e Seguridade Social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Não esquecer contrapartida dos convênios e operações de crédi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785880"/>
            <a:ext cx="79725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11) SUBTÍTULO COPA 201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s subtítulos voltados para a Copa 2014 deverão conter </a:t>
            </a:r>
            <a:r>
              <a:rPr b="1" lang="pt-BR" sz="3400" spc="-1" strike="noStrike" u="sng">
                <a:solidFill>
                  <a:srgbClr val="000000"/>
                </a:solidFill>
                <a:uFillTx/>
                <a:latin typeface="Calibri"/>
              </a:rPr>
              <a:t>ao final</a:t>
            </a:r>
            <a:r>
              <a:rPr b="1" lang="pt-BR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da descrição a expressão </a:t>
            </a: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(COPA 2014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3" descr=""/>
          <p:cNvPicPr/>
          <p:nvPr/>
        </p:nvPicPr>
        <p:blipFill>
          <a:blip r:embed="rId1"/>
          <a:srcRect l="29910" t="35340" r="19584" b="12279"/>
          <a:stretch/>
        </p:blipFill>
        <p:spPr>
          <a:xfrm>
            <a:off x="500040" y="1500120"/>
            <a:ext cx="7858080" cy="4643640"/>
          </a:xfrm>
          <a:prstGeom prst="rect">
            <a:avLst/>
          </a:prstGeom>
          <a:ln w="0">
            <a:noFill/>
          </a:ln>
        </p:spPr>
      </p:pic>
      <p:sp>
        <p:nvSpPr>
          <p:cNvPr id="53" name="CaixaDeTexto 2"/>
          <p:cNvSpPr/>
          <p:nvPr/>
        </p:nvSpPr>
        <p:spPr>
          <a:xfrm>
            <a:off x="714240" y="42876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INTEGRAÇÃO DOS INSTRUMENTOS DE PLANEJAMENTO E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57120" y="499680"/>
            <a:ext cx="81439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pt-BR" sz="3400" spc="-1" strike="noStrike">
                <a:solidFill>
                  <a:srgbClr val="c00000"/>
                </a:solidFill>
                <a:latin typeface="Arial"/>
                <a:ea typeface="Arial"/>
              </a:rPr>
              <a:t>12) SUBTÍTULOS ODM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s subtítulos relacionados aos objetivos de desenvolvimento do milênio devem conter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fren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de seus descritores a sigla </a:t>
            </a: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(OD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pt-BR" sz="2300" spc="-1" strike="noStrike">
                <a:solidFill>
                  <a:srgbClr val="0000ff"/>
                </a:solidFill>
                <a:latin typeface="Arial"/>
                <a:ea typeface="Arial"/>
              </a:rPr>
              <a:t>Art. 86 LDO 2012.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No prazo máximo de 60 (sessenta) dias após o encerramento do exercício financeiro de 2011, a Secretaria de Estado de Planejamento, Orçamento e Gestão publicará, no Diário Oficial do Distrito Federal, relatório analítico de desempenho físico-financeiro dos projetos, atividades e respectivos subtítulos quanto aos efeitos sobre os Objetivos e Metas de Desenvolvimento do Milênio, em especial aquelas relacionadas a erradicar a extrema pobreza e a fom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85840" y="499680"/>
            <a:ext cx="82152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13) MODALIDADE 9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Visa dar transparência à dupla contagem de recursos. Ocorre somente quando da “Aplicação Direta decorrente de Operações entre Órgãos, Fundos e outros entes no âmbito do orçamento Fiscal e Seguridade Social”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31859c"/>
                </a:solidFill>
                <a:latin typeface="Arial"/>
                <a:ea typeface="Arial"/>
              </a:rPr>
              <a:t>Grupo de Despesa 3  </a:t>
            </a:r>
            <a:r>
              <a:rPr b="0" i="1" lang="pt-BR" sz="2800" spc="-1" strike="noStrike">
                <a:solidFill>
                  <a:srgbClr val="31859c"/>
                </a:solidFill>
                <a:latin typeface="Wingdings"/>
                <a:ea typeface="Wingdings"/>
              </a:rPr>
              <a:t></a:t>
            </a:r>
            <a:r>
              <a:rPr b="0" i="1" lang="pt-BR" sz="2800" spc="-1" strike="noStrike">
                <a:solidFill>
                  <a:srgbClr val="31859c"/>
                </a:solidFill>
                <a:latin typeface="Arial"/>
                <a:ea typeface="Arial"/>
              </a:rPr>
              <a:t> Rec Intra 7000.00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984807"/>
                </a:solidFill>
                <a:latin typeface="Arial"/>
                <a:ea typeface="Arial"/>
              </a:rPr>
              <a:t>Grupo de Despesa 4  </a:t>
            </a:r>
            <a:r>
              <a:rPr b="0" i="1" lang="pt-BR" sz="2800" spc="-1" strike="noStrike">
                <a:solidFill>
                  <a:srgbClr val="984807"/>
                </a:solidFill>
                <a:latin typeface="Wingdings"/>
                <a:ea typeface="Wingdings"/>
              </a:rPr>
              <a:t></a:t>
            </a:r>
            <a:r>
              <a:rPr b="0" i="1" lang="pt-BR" sz="2800" spc="-1" strike="noStrike">
                <a:solidFill>
                  <a:srgbClr val="984807"/>
                </a:solidFill>
                <a:latin typeface="Arial"/>
                <a:ea typeface="Arial"/>
              </a:rPr>
              <a:t> Rec Intra 8000.00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4) UTILIZAÇÃO IMPRÓPRIA DE ELEMENTOS DE DESPE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3840" y="1599840"/>
            <a:ext cx="8472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É vedada a utilização em projetos e atividades dos elementos de despes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1- Contribuiçõ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2-Auxílio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3-Subvenções Sociais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ode ocorrer apenas em operações especiais. MPO Pág. 114, LDO 201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760" y="928800"/>
            <a:ext cx="814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aixaDeTexto 4"/>
          <p:cNvSpPr/>
          <p:nvPr/>
        </p:nvSpPr>
        <p:spPr>
          <a:xfrm>
            <a:off x="642960" y="1285920"/>
            <a:ext cx="757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vedada a utilização de elementos de despesa que representem gastos efetivos (ex: 30, 45, 36, 39, 51,52) em operações especiais, </a:t>
            </a: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exceto as ações de apoio</a:t>
            </a:r>
            <a:r>
              <a:rPr b="0" lang="pt-BR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28400" y="642600"/>
            <a:ext cx="80722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15)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RECURSOS PARA A R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 destinação de recursos financeiros ao desenvolvimento de ações nos municípios da Região Integrada de Desenvolvimento do Distrito Federal e Entorno – RIDE,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mente se houver contrapartida desses municípios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ou dos governos estaduais e se as ações estiverem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seridas no Anexo de Metas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e Prioridades da LDO. (Art.º 19 LDO 2012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97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16) DESPESAS COM PUBLICIDADE E PROPAGAND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840" y="128592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campanhas institucional, educativas, propaganda em geral, etc., devem ser classificadas na ação </a:t>
            </a:r>
            <a:r>
              <a:rPr b="1" lang="pt-BR" sz="2500" spc="-1" strike="noStrike">
                <a:solidFill>
                  <a:srgbClr val="c00000"/>
                </a:solidFill>
                <a:latin typeface="Arial"/>
                <a:ea typeface="Arial"/>
              </a:rPr>
              <a:t>8505 – Publicidade e Propaganda</a:t>
            </a:r>
            <a:r>
              <a:rPr b="0" lang="pt-BR" sz="2500" spc="-1" strike="noStrike">
                <a:solidFill>
                  <a:srgbClr val="c00000"/>
                </a:solidFill>
                <a:latin typeface="Arial"/>
                <a:ea typeface="Arial"/>
              </a:rPr>
              <a:t>.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evendo-se segregar em subtítulos de publicidade 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institucional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e de 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utilidade pública</a:t>
            </a:r>
            <a:r>
              <a:rPr b="0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.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(Art.º 15 LDO 2012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Publicidade e Propaganda da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ministração diret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ficaram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centralizada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na Secretaria de Estado de Publicidade Institucional do Distrito Federa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Publicidade e Propaganda da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ministração indiret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nas respectivas Unidades Orçamentária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85480" y="357120"/>
            <a:ext cx="83581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600" spc="-1" strike="noStrike" u="sng">
                <a:solidFill>
                  <a:srgbClr val="0000ff"/>
                </a:solidFill>
                <a:uFillTx/>
                <a:latin typeface="Calibri"/>
              </a:rPr>
              <a:t>PUBLICIDADE INSTITUCIO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ivulgar informações sobre atos, obras e programas dos órgãos e entidades governamentais, suas metas e resultad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600" spc="-1" strike="noStrike" u="sng">
                <a:solidFill>
                  <a:srgbClr val="0000ff"/>
                </a:solidFill>
                <a:uFillTx/>
                <a:latin typeface="Calibri"/>
              </a:rPr>
              <a:t>PUBLICIDADE DE UTILIDADE PÚBL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ormar, orientar, avisar, prevenir ou alertar a população ou segmento da população para adotar comportamentos que lhes tragam benefícios sociais reais, visando melhorar a sua qualidade de vid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emplos: Campanhas educativas de trânsito, campanhas de vacinação de massa, campanhas preventivas contra doenças epidemiológicas, alertas sobre exercícios físicos em determinado período do dia, etc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17) PRECEDÊNCIA NA ALOCAÇÃO DOS RECURS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pesas Obrigatórias Constitucionais ou Legai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jetos em Andament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pesas de Conservação do Patrimônio Públic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etas e Prioridades da LD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gramação Destinada a Criança e ao Adolescente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rçamento Participativo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Limites Mínimos de Educação, Saúde, FAP e F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8) DESPESAS COM SENTENÇAS JUDICI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ecatórios Judiciários e Débitos Oriundos de Decisões Transitadas em Julgado da Administração Direta, Autárquica e Fundacional –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SEF e controle pela PRG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ébitos oriundos de Decisões  Transitadas em julgado das Empresas Públicas e Sociedade de Economia Mista –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NA PRÓPRIA UNIDAD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Requisições de Pequeno Valor – RPV – Subtítulos Específico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Unidades da Administração Indireta devem encaminhar a relação das sentenças judiciais, até 22/06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eparar precatórios alimentares dos não alimentar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c00000"/>
                </a:solidFill>
                <a:latin typeface="Calibri"/>
              </a:rPr>
              <a:t>EC 62/2009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ítulo 1" descr=""/>
          <p:cNvPicPr/>
          <p:nvPr/>
        </p:nvPicPr>
        <p:blipFill>
          <a:blip r:embed="rId1"/>
          <a:stretch/>
        </p:blipFill>
        <p:spPr>
          <a:xfrm>
            <a:off x="219240" y="165240"/>
            <a:ext cx="8680320" cy="1919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28400" y="1928520"/>
            <a:ext cx="8358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1) SUBTÍTULO EXTENSO COM MAIS DE UMA FINALIDADE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0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      2007 – Promoção de Atividades Cultura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Subtítulo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4621 – (EP) Apoio aos Projetos da Assoc. Menino de Ceilândia; ONG Via dos Sonhos; IGTB; o Semeador Cultural; Assoc. Articum, Centro Arte Luanda; ACOGELC; ASMAP; Arranjos Produtivos da Cultura do DF; Assoc. Ruarte; Centro Ferrock; Assoc. Arte Cultura de Ceilândia – AACU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85840" y="214200"/>
          <a:ext cx="8572320" cy="6454800"/>
        </p:xfrm>
        <a:graphic>
          <a:graphicData uri="http://schemas.openxmlformats.org/drawingml/2006/table">
            <a:tbl>
              <a:tblPr/>
              <a:tblGrid>
                <a:gridCol w="4538520"/>
                <a:gridCol w="692280"/>
                <a:gridCol w="693720"/>
                <a:gridCol w="698400"/>
                <a:gridCol w="657360"/>
                <a:gridCol w="642960"/>
                <a:gridCol w="649080"/>
              </a:tblGrid>
              <a:tr h="341280">
                <a:tc gridSpan="7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RONOGRAMA RESUMIDO DA ELABORAÇÃO DO ORÇAMENTO 2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5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IVIDAD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liação dos Subtítulos e da Classificação     Orçamentária 20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ião de Abertura do Processo de    Elaboração  do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ção dos Subtítulos no SIGGO pelas Unidades Orçamentá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a 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ção dos Subtítulos pelo Órgão Central de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a 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dastramento da Metodologia das Receitas Próp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060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ência Públ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zo para recebimento das Projeções de Receita e Renúncia Tributá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dastramento das Propostas Setoriai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ção e Consolidação das Propostas Setoriais pelo Órgão Central  de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a 2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ecção do Projeto de Lei e Anexo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42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aminhamento à CLDF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14200" y="428400"/>
            <a:ext cx="84297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Açã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     5094 – Ampliação e Reforma dos Hospitais Regionais do 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4288 – (EP) Manutenção, Reforma e Ampliação das Unidades de Terapia Intensiva - U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Cada expressão utilizada gera um produto diferente, ou seja, é manutenção, é reforma ou é ampliação de UTI´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2800" spc="-1" strike="noStrike">
                <a:solidFill>
                  <a:srgbClr val="000099"/>
                </a:solidFill>
                <a:latin typeface="Calibri"/>
              </a:rPr>
              <a:t>De acordo com o art. 50, inciso XX, do Decreto nº 32.598/2010 é vedado o empenho para mais de um beneficiário.</a:t>
            </a: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4240" y="1714320"/>
            <a:ext cx="771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Elemento 03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– elemento pertence ao Grupo de Natureza de Despesa Pessoal e Encargos Sociais e é destinado ao pagamento despesas com pensionistas civis e militares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9147" t="39045" r="8835" b="22190"/>
          <a:stretch/>
        </p:blipFill>
        <p:spPr>
          <a:xfrm>
            <a:off x="642960" y="3000240"/>
            <a:ext cx="771516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CaixaDeTexto 4"/>
          <p:cNvSpPr/>
          <p:nvPr/>
        </p:nvSpPr>
        <p:spPr>
          <a:xfrm>
            <a:off x="571680" y="35712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2)</a:t>
            </a:r>
            <a:r>
              <a:rPr b="0" lang="pt-BR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ELEMENTO DE DESPESA INCOMPATÍVEL COM A AÇÃO/SUBTÍT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lipse 5"/>
          <p:cNvSpPr/>
          <p:nvPr/>
        </p:nvSpPr>
        <p:spPr>
          <a:xfrm>
            <a:off x="571680" y="5500800"/>
            <a:ext cx="714240" cy="7858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42920" y="57168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3) MODALIDADE DE APLICAÇÃO UTILIZADA INDEVIDAMENTE NA AÇÃO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Modalidade 20</a:t>
            </a:r>
            <a:r>
              <a:rPr b="0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ransferências à União para despesas que não configuram transferências de recursos financeiros à Uni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Elemento 91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– Sentenças Judiciais em objeto de gasto diver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42560" y="713880"/>
            <a:ext cx="8543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rcRect l="8990" t="45787" r="9147" b="22190"/>
          <a:stretch/>
        </p:blipFill>
        <p:spPr>
          <a:xfrm>
            <a:off x="642960" y="1071720"/>
            <a:ext cx="7910640" cy="4510080"/>
          </a:xfrm>
          <a:prstGeom prst="rect">
            <a:avLst/>
          </a:prstGeom>
          <a:ln w="0">
            <a:noFill/>
          </a:ln>
        </p:spPr>
      </p:pic>
      <p:sp>
        <p:nvSpPr>
          <p:cNvPr id="121" name="Elipse 4"/>
          <p:cNvSpPr/>
          <p:nvPr/>
        </p:nvSpPr>
        <p:spPr>
          <a:xfrm>
            <a:off x="642960" y="4786200"/>
            <a:ext cx="642960" cy="5716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85840" y="213840"/>
            <a:ext cx="85723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4) QUANTIDADE DO PRODUTO/META INCOMPATÍVEL COM O SUBTÍTU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Ação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1888 – Reforma e Ampliação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 Unidade do Ensino Mé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9324 –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Reforma e Construçã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do Centro Educacional nº 7 de Ceilân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Produto:</a:t>
            </a:r>
            <a:r>
              <a:rPr b="1" lang="pt-B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scola Reform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Un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2                   </a:t>
            </a: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Quant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Ação:</a:t>
            </a:r>
            <a:r>
              <a:rPr b="1" lang="pt-B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7244 – Reforma de Está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Subtítulo: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9498 –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Reforma do Estádi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ntônio Otoni Filho no Guar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Produto: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stádio Reform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Un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2                    </a:t>
            </a: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Quantidade</a:t>
            </a:r>
            <a:r>
              <a:rPr b="0" lang="pt-BR" sz="2400" spc="-1" strike="noStrike">
                <a:solidFill>
                  <a:srgbClr val="376092"/>
                </a:solidFill>
                <a:latin typeface="Calibri"/>
              </a:rPr>
              <a:t>: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14200" y="642960"/>
            <a:ext cx="8358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meta física deverá ser cadastrada no subtítulo da ação, com produto que identifique o caráter finalístico da mesma, estando seu quantitativo compatível com o valor financeiro proposto </a:t>
            </a: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META x CUST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900" spc="-1" strike="noStrike">
                <a:solidFill>
                  <a:srgbClr val="c00000"/>
                </a:solidFill>
                <a:latin typeface="Calibri"/>
              </a:rPr>
              <a:t>DECISÕES TCDF</a:t>
            </a: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: 4813/2009, 3523/2008, 3523/2008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META X CUSTO.xl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28760" y="356760"/>
            <a:ext cx="82152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5) DESCRIÇÃO AÇÃO/SUBTÍTU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ubtítulo incompatível com ação. Não está clara a finalidade do subtítul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rcRect l="9781" t="34833" r="8674" b="32584"/>
          <a:stretch/>
        </p:blipFill>
        <p:spPr>
          <a:xfrm>
            <a:off x="857160" y="2286000"/>
            <a:ext cx="7500960" cy="4071960"/>
          </a:xfrm>
          <a:prstGeom prst="rect">
            <a:avLst/>
          </a:prstGeom>
          <a:ln w="0">
            <a:noFill/>
          </a:ln>
        </p:spPr>
      </p:pic>
      <p:sp>
        <p:nvSpPr>
          <p:cNvPr id="126" name="Elipse 3"/>
          <p:cNvSpPr/>
          <p:nvPr/>
        </p:nvSpPr>
        <p:spPr>
          <a:xfrm>
            <a:off x="1500120" y="4143240"/>
            <a:ext cx="1928880" cy="5716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00040" y="499680"/>
            <a:ext cx="8072640" cy="70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Ex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   2392 – Manutenção da Educação de Jovens e Adul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4383 – (EP) Reforma do Centro de Ensino Asa Norte; Reforma Centro de Ensino Médio. Elefante Branco; Cobertura do Pátio e Construção de Auditório na Escola Classe 66 – Sol Nas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6) INCOMPATIBILIDADE FUNÇÃO X ESFE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rcRect l="9133" t="43824" r="8516" b="14606"/>
          <a:stretch/>
        </p:blipFill>
        <p:spPr>
          <a:xfrm>
            <a:off x="642960" y="2000160"/>
            <a:ext cx="7858080" cy="4286520"/>
          </a:xfrm>
          <a:prstGeom prst="rect">
            <a:avLst/>
          </a:prstGeom>
          <a:ln w="0">
            <a:noFill/>
          </a:ln>
        </p:spPr>
      </p:pic>
      <p:sp>
        <p:nvSpPr>
          <p:cNvPr id="130" name="Elipse 4"/>
          <p:cNvSpPr/>
          <p:nvPr/>
        </p:nvSpPr>
        <p:spPr>
          <a:xfrm>
            <a:off x="3714840" y="1857240"/>
            <a:ext cx="1643040" cy="5716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lipse 5"/>
          <p:cNvSpPr/>
          <p:nvPr/>
        </p:nvSpPr>
        <p:spPr>
          <a:xfrm>
            <a:off x="1857240" y="2928960"/>
            <a:ext cx="1214640" cy="5000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lipse 6"/>
          <p:cNvSpPr/>
          <p:nvPr/>
        </p:nvSpPr>
        <p:spPr>
          <a:xfrm>
            <a:off x="8143920" y="5500800"/>
            <a:ext cx="500040" cy="7142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571680" y="1000080"/>
            <a:ext cx="792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6600"/>
                </a:solidFill>
                <a:latin typeface="Calibri"/>
              </a:rPr>
              <a:t>A Função está relacionada com a missão institucional do órg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28760" y="357120"/>
            <a:ext cx="7858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oucas funções são admitidas na esfera 2 Seguridade Soci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0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Assistência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09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Previdência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         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1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Saú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2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Encargos Especia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tângulo de cantos arredondados 3"/>
          <p:cNvSpPr/>
          <p:nvPr/>
        </p:nvSpPr>
        <p:spPr>
          <a:xfrm>
            <a:off x="2643120" y="2286000"/>
            <a:ext cx="4643640" cy="3000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trela de 7 Pontos 3"/>
          <p:cNvSpPr/>
          <p:nvPr/>
        </p:nvSpPr>
        <p:spPr>
          <a:xfrm>
            <a:off x="3286080" y="2286000"/>
            <a:ext cx="2857680" cy="2428920"/>
          </a:xfrm>
          <a:custGeom>
            <a:avLst/>
            <a:gdLst>
              <a:gd name="textAreaLeft" fmla="*/ 635760 w 2857680"/>
              <a:gd name="textAreaRight" fmla="*/ 2221920 w 2857680"/>
              <a:gd name="textAreaTop" fmla="*/ 480960 h 2428920"/>
              <a:gd name="textAreaBottom" fmla="*/ 1829160 h 2428920"/>
            </a:gdLst>
            <a:ahLst/>
            <a:rect l="textAreaLeft" t="textAreaTop" r="textAreaRight" b="textAreaBottom"/>
            <a:pathLst>
              <a:path w="2857500" h="2428875">
                <a:moveTo>
                  <a:pt x="-7" y="1562026"/>
                </a:moveTo>
                <a:lnTo>
                  <a:pt x="440021" y="1080957"/>
                </a:lnTo>
                <a:lnTo>
                  <a:pt x="282980" y="481071"/>
                </a:lnTo>
                <a:lnTo>
                  <a:pt x="988729" y="481071"/>
                </a:lnTo>
                <a:lnTo>
                  <a:pt x="1428750" y="0"/>
                </a:lnTo>
                <a:lnTo>
                  <a:pt x="1868771" y="481071"/>
                </a:lnTo>
                <a:lnTo>
                  <a:pt x="2574520" y="481071"/>
                </a:lnTo>
                <a:lnTo>
                  <a:pt x="2417479" y="1080957"/>
                </a:lnTo>
                <a:lnTo>
                  <a:pt x="2857507" y="1562026"/>
                </a:lnTo>
                <a:lnTo>
                  <a:pt x="2221646" y="1829000"/>
                </a:lnTo>
                <a:lnTo>
                  <a:pt x="2064600" y="2428888"/>
                </a:lnTo>
                <a:lnTo>
                  <a:pt x="1428750" y="2161910"/>
                </a:lnTo>
                <a:lnTo>
                  <a:pt x="792900" y="2428888"/>
                </a:lnTo>
                <a:lnTo>
                  <a:pt x="635854" y="18290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ixaDeTexto 4"/>
          <p:cNvSpPr/>
          <p:nvPr/>
        </p:nvSpPr>
        <p:spPr>
          <a:xfrm>
            <a:off x="3857760" y="2928960"/>
            <a:ext cx="164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PL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L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 explicativo em elipse 5"/>
          <p:cNvSpPr/>
          <p:nvPr/>
        </p:nvSpPr>
        <p:spPr>
          <a:xfrm>
            <a:off x="5786280" y="428760"/>
            <a:ext cx="2643480" cy="1785960"/>
          </a:xfrm>
          <a:prstGeom prst="wedgeEllipseCallout">
            <a:avLst>
              <a:gd name="adj1" fmla="val -53435"/>
              <a:gd name="adj2" fmla="val 77319"/>
            </a:avLst>
          </a:prstGeom>
          <a:solidFill>
            <a:srgbClr val="b7dee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 explicativo em elipse 6"/>
          <p:cNvSpPr/>
          <p:nvPr/>
        </p:nvSpPr>
        <p:spPr>
          <a:xfrm>
            <a:off x="642960" y="357120"/>
            <a:ext cx="3286080" cy="2000160"/>
          </a:xfrm>
          <a:prstGeom prst="wedgeEllipseCallout">
            <a:avLst>
              <a:gd name="adj1" fmla="val 48106"/>
              <a:gd name="adj2" fmla="val 64773"/>
            </a:avLst>
          </a:prstGeom>
          <a:solidFill>
            <a:srgbClr val="e6b9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 explicativo em elipse 7"/>
          <p:cNvSpPr/>
          <p:nvPr/>
        </p:nvSpPr>
        <p:spPr>
          <a:xfrm>
            <a:off x="5715000" y="4500720"/>
            <a:ext cx="2928960" cy="1928520"/>
          </a:xfrm>
          <a:prstGeom prst="wedgeEllipseCallout">
            <a:avLst>
              <a:gd name="adj1" fmla="val -54768"/>
              <a:gd name="adj2" fmla="val -65083"/>
            </a:avLst>
          </a:prstGeom>
          <a:solidFill>
            <a:srgbClr val="c4bd97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 explicativo em elipse 8"/>
          <p:cNvSpPr/>
          <p:nvPr/>
        </p:nvSpPr>
        <p:spPr>
          <a:xfrm>
            <a:off x="642960" y="4643280"/>
            <a:ext cx="2714760" cy="1785960"/>
          </a:xfrm>
          <a:prstGeom prst="wedgeEllipseCallout">
            <a:avLst>
              <a:gd name="adj1" fmla="val 60217"/>
              <a:gd name="adj2" fmla="val -69500"/>
            </a:avLst>
          </a:prstGeom>
          <a:solidFill>
            <a:srgbClr val="92d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ixaDeTexto 9"/>
          <p:cNvSpPr/>
          <p:nvPr/>
        </p:nvSpPr>
        <p:spPr>
          <a:xfrm>
            <a:off x="6000840" y="7142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ior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ixaDeTexto 10"/>
          <p:cNvSpPr/>
          <p:nvPr/>
        </p:nvSpPr>
        <p:spPr>
          <a:xfrm>
            <a:off x="1000080" y="571680"/>
            <a:ext cx="29289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lanejamento                     Estraté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DOT                  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PP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ixaDeTexto 11"/>
          <p:cNvSpPr/>
          <p:nvPr/>
        </p:nvSpPr>
        <p:spPr>
          <a:xfrm>
            <a:off x="5500800" y="4714920"/>
            <a:ext cx="3357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mandas Pop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oposta Se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12"/>
          <p:cNvSpPr/>
          <p:nvPr/>
        </p:nvSpPr>
        <p:spPr>
          <a:xfrm>
            <a:off x="928800" y="4929120"/>
            <a:ext cx="221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endas do Legisl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Conector de seta reta 16"/>
          <p:cNvCxnSpPr/>
          <p:nvPr/>
        </p:nvCxnSpPr>
        <p:spPr>
          <a:xfrm flipV="1">
            <a:off x="1856880" y="1573200"/>
            <a:ext cx="1072440" cy="7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Conector de seta reta 18"/>
          <p:cNvCxnSpPr/>
          <p:nvPr/>
        </p:nvCxnSpPr>
        <p:spPr>
          <a:xfrm>
            <a:off x="2499840" y="1143000"/>
            <a:ext cx="4294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Conector de seta reta 22"/>
          <p:cNvCxnSpPr/>
          <p:nvPr/>
        </p:nvCxnSpPr>
        <p:spPr>
          <a:xfrm flipV="1">
            <a:off x="1928880" y="1713960"/>
            <a:ext cx="100080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28760" y="42840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7) SUBTÍTULOS COM FINALIDADE DE “RESERVA ORÇAMENTÁRI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CaixaDeTexto 3"/>
          <p:cNvSpPr/>
          <p:nvPr/>
        </p:nvSpPr>
        <p:spPr>
          <a:xfrm>
            <a:off x="250920" y="1700280"/>
            <a:ext cx="8643960" cy="44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FUNÇÃO              12    EDUCAÇÃO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UBFUNÇÃO     361    ENSINO FUNDAMENTAL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GRAMA      142    EDUCANDO SEMPRE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ÇÃO               2389    MANUTENÇÃO DO ENSINO FUNDAMENTAL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UBTÍTULO     4381    RESERVA ORÇAMENTÁRIA PARA APLICAÇÃO MANUTENÇÃO E DESENVOLVIMENTO DA EDUCAÇÃO DO ENSINO FUNDAMENT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Calibri"/>
              </a:rPr>
              <a:t>OBSERVAR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rt. 5º e 20º da Lei 4.320/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rt. 5º, III, LR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tângulo de cantos arredondados 5"/>
          <p:cNvSpPr/>
          <p:nvPr/>
        </p:nvSpPr>
        <p:spPr>
          <a:xfrm>
            <a:off x="2071800" y="3271680"/>
            <a:ext cx="4357440" cy="357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14200" y="500040"/>
            <a:ext cx="85010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8) SUBTÍTULO DE EXECUÇÃO DE OBRAS EM O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          9073 – Apoio ao Esporte, Educação Física e Laz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0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4149 (EP) Implantação de Pontos de Encontros Comunitários (PEC S) na Ceilâ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t-BR" sz="3000" spc="-1" strike="noStrike">
                <a:solidFill>
                  <a:srgbClr val="0000ff"/>
                </a:solidFill>
                <a:latin typeface="Calibri"/>
              </a:rPr>
              <a:t>LDO, art. 6º, VI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, as despesas classificadas como operações especiais </a:t>
            </a:r>
            <a:r>
              <a:rPr b="1" i="1" lang="pt-BR" sz="3000" spc="-1" strike="noStrike" u="sng">
                <a:solidFill>
                  <a:srgbClr val="000000"/>
                </a:solidFill>
                <a:uFillTx/>
                <a:latin typeface="Calibri"/>
              </a:rPr>
              <a:t>não contribuem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 para a manutenção, expansão ou aperfeiçoamento das ações de governo, das quais não resulta um produto, e não geram contraprestação direta sob a forma de bens ou serviços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Imagem 3" descr=""/>
          <p:cNvPicPr/>
          <p:nvPr/>
        </p:nvPicPr>
        <p:blipFill>
          <a:blip r:embed="rId1"/>
          <a:srcRect l="20472" t="15482" r="33061" b="22805"/>
          <a:stretch/>
        </p:blipFill>
        <p:spPr>
          <a:xfrm>
            <a:off x="611280" y="476280"/>
            <a:ext cx="7848360" cy="5977080"/>
          </a:xfrm>
          <a:prstGeom prst="rect">
            <a:avLst/>
          </a:prstGeom>
          <a:ln w="0">
            <a:noFill/>
          </a:ln>
        </p:spPr>
      </p:pic>
      <p:sp>
        <p:nvSpPr>
          <p:cNvPr id="141" name="Elipse 2"/>
          <p:cNvSpPr/>
          <p:nvPr/>
        </p:nvSpPr>
        <p:spPr>
          <a:xfrm>
            <a:off x="5651640" y="2421000"/>
            <a:ext cx="1512720" cy="11523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RECEITA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85840" y="785880"/>
          <a:ext cx="8572320" cy="5900760"/>
        </p:xfrm>
        <a:graphic>
          <a:graphicData uri="http://schemas.openxmlformats.org/drawingml/2006/table">
            <a:tbl>
              <a:tblPr/>
              <a:tblGrid>
                <a:gridCol w="1179360"/>
                <a:gridCol w="1090800"/>
                <a:gridCol w="1008000"/>
                <a:gridCol w="1008000"/>
                <a:gridCol w="936720"/>
                <a:gridCol w="444240"/>
                <a:gridCol w="924120"/>
                <a:gridCol w="431640"/>
                <a:gridCol w="1047960"/>
                <a:gridCol w="501480"/>
              </a:tblGrid>
              <a:tr h="2127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ÍCIO 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 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Previs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- RECEITA TRIBUTÁ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900.535.83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901.658.2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392.530.0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22.4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8.005.8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9.128.2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 - IMPOST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779.601.67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779.601.6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278.677.1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0.924.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0.924.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2-IP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0.554.12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0.554.1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4.849.2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704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704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4-I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93.710.34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93.710.3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287.418.4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6.291.8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6.291.8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5-IP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5.406.47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5.406.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5.887.6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.518.8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.518.8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7-ITC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982.37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982.3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.597.0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85.3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85.3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8-ITB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.246.14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.246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2.358.1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887.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887.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2 - ICM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85.959.86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85.959.8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983.560.6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2.399.2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2.399.2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5-I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2.206.22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2.206.2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9.201.3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.995.1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.995.1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6-SIMPL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.536.13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.536.1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9.804.6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.268.4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.268.4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X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.934.16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2.056.5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3.852.8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22.4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081.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.203.7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A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19.142.49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562.020.34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46.907.5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42.877.8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.765.0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415.112.8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19.678.3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63.678.60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539.437.53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44.000.2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0.240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924.241.0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RECEIT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00040" y="714240"/>
          <a:ext cx="8215200" cy="5786640"/>
        </p:xfrm>
        <a:graphic>
          <a:graphicData uri="http://schemas.openxmlformats.org/drawingml/2006/table">
            <a:tbl>
              <a:tblPr/>
              <a:tblGrid>
                <a:gridCol w="1162080"/>
                <a:gridCol w="909720"/>
                <a:gridCol w="928440"/>
                <a:gridCol w="1000440"/>
                <a:gridCol w="785520"/>
                <a:gridCol w="428760"/>
                <a:gridCol w="1071720"/>
                <a:gridCol w="500040"/>
                <a:gridCol w="993600"/>
                <a:gridCol w="434880"/>
              </a:tblGrid>
              <a:tr h="31752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ICIO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- RECEITA TRIBUTÁ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747.988.9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753.015.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352.921.7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26.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5.067.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0.093.5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 - IMPOS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619.694.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619.694.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227.344.5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2.350.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2.350.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2-IP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8.316.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8.316.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.008.6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.307.8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.307.8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4-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28.710.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28.710.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503.877.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.167.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.167.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5-IP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4.016.8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4.016.8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7.171.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6.84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6.84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7-IT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.331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.331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.193.7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2.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2.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8-IT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.978.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.978.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9.861.7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116.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116.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2 - ICM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55.257.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55.257.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493.608.9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61.648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61.648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5-I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3.352.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3.352.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56.498.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.145.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.145.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6-SIMP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.730.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.730.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3.124.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.393.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.393.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X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294.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3.320.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5.577.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26.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717.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743.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93.90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637.996.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12.878.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4.090.4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1.027.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25.117.5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41.894.5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391.011.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665.800.3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9.116.8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76.094.2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725.211.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DESPESA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28760" y="857160"/>
          <a:ext cx="8286480" cy="5488200"/>
        </p:xfrm>
        <a:graphic>
          <a:graphicData uri="http://schemas.openxmlformats.org/drawingml/2006/table">
            <a:tbl>
              <a:tblPr/>
              <a:tblGrid>
                <a:gridCol w="1139760"/>
                <a:gridCol w="1074600"/>
                <a:gridCol w="1000080"/>
                <a:gridCol w="1071720"/>
                <a:gridCol w="1009440"/>
                <a:gridCol w="347760"/>
                <a:gridCol w="857160"/>
                <a:gridCol w="513000"/>
                <a:gridCol w="915840"/>
                <a:gridCol w="357120"/>
              </a:tblGrid>
              <a:tr h="303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P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ÍCIO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 e Encargos Socia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1.338.31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36.352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46.540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5.014.5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5.201.9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9.812.6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os e Encargos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7.731.31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6.907.0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9.243.6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0.824.2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.487.6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663.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 Despesas Corre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91.713.48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010.832.4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07.686.75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19.118.9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4.026.7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403.145.7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me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56.816.35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926.146.4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75.568.4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69.330.1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81.247.9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750.578.0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ões   Financei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2.790.12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.094.2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.100.3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5.695.9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2.689.8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6.993.8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ização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4.137.26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5.988.5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3.364.2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51.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.773.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.624.3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a de Conting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5.151.48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9.37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22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5.15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9.37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19.678.3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492.693.16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102.503.65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473.014.8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917.174.67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2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3.390.189.51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 21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DESPES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28760" y="857160"/>
          <a:ext cx="8286480" cy="5572080"/>
        </p:xfrm>
        <a:graphic>
          <a:graphicData uri="http://schemas.openxmlformats.org/drawingml/2006/table">
            <a:tbl>
              <a:tblPr/>
              <a:tblGrid>
                <a:gridCol w="1168200"/>
                <a:gridCol w="974880"/>
                <a:gridCol w="1000080"/>
                <a:gridCol w="1000080"/>
                <a:gridCol w="936720"/>
                <a:gridCol w="431640"/>
                <a:gridCol w="936720"/>
                <a:gridCol w="503280"/>
                <a:gridCol w="977760"/>
                <a:gridCol w="357120"/>
              </a:tblGrid>
              <a:tr h="325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P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ICIO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 e Encargos Socia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243.916.3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769.714.8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695.755.0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5.798.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1.838.6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3.959.8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8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os e Encargos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3.930.6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1.032.2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8.043.0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2.898.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5.887.5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989.1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Despesas Corre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456.891.6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865.488.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743.750.0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8.596.7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13.141.5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121.738.2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me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969.727.5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511.650.4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0.273.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1.922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069.454.4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611.377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ões Financei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2.800.2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.738.1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9.471.7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5.062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3.328.4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8.266.3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ização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6.750.6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2.749.6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0.237.7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.001.0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6.512.9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511.9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a de Conting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7.877.5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4.303.0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3.574.5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77.877.5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4.303.0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7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41.894.56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802.676.5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727.530.6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60.781.9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    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1.714.363.9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2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3.075.145.9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2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  <p:sp>
        <p:nvSpPr>
          <p:cNvPr id="150" name="Conector reto 7"/>
          <p:cNvSpPr/>
          <p:nvPr/>
        </p:nvSpPr>
        <p:spPr>
          <a:xfrm flipV="1">
            <a:off x="1612800" y="857160"/>
            <a:ext cx="0" cy="121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928800" y="285840"/>
          <a:ext cx="7072200" cy="6340320"/>
        </p:xfrm>
        <a:graphic>
          <a:graphicData uri="http://schemas.openxmlformats.org/drawingml/2006/table">
            <a:tbl>
              <a:tblPr/>
              <a:tblGrid>
                <a:gridCol w="5094000"/>
                <a:gridCol w="1978200"/>
              </a:tblGrid>
              <a:tr h="23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 PL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64.213.2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NDAS À REC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3.898.6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18.111.9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- A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09.909.5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- INATIVOS E PENSION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08.808.3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SSÃO DE BENEFÍ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.575.6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SARCI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503.3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.558.2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ATÓ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8.443.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2.551.5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5.587.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Ú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72.399.6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NDAS PARLAMENTA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.139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RVA DE CONTINGÊ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91.119.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01.596.3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"LIVRE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16.515.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28760" y="22856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RITÉRIOS ORÇAMENTÁRIOS DE UTILIZAÇÃO DE TERMOS PARA CRIAÇÃO DE AÇÕES - .d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AÇÕES SUBTÍTULOS SEM EXECUÇÃO.xls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FUNDO SEM EXECUÇÃO.x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00000"/>
                </a:solidFill>
                <a:latin typeface="Calibri"/>
              </a:rPr>
              <a:t>INSTRUÇÕES PARA ELABORAÇÃO DA PROPOSTA ORÇAMENTÁ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214560" y="1643040"/>
            <a:ext cx="89010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s Unidades Orçamentárias deverão elaborar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uas propostas orçamentárias observan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aixaDeTexto 5"/>
          <p:cNvSpPr/>
          <p:nvPr/>
        </p:nvSpPr>
        <p:spPr>
          <a:xfrm>
            <a:off x="500040" y="2643120"/>
            <a:ext cx="78580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ONSTITUIÇÃO FEDERAL – C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ORGÂNICA DO DF – LOD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DE RESPONSABILIDADE FISCAL – L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Nº 4.320/6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PLANO PLURIANUAL – PP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DE DIRETRIZES ORÇAMENTÁRIAS – LDO/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MANUAL DE PLANEJAMENTO E ORÇAMENTO – 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ORMAÇÕES DO S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ORIENTAÇÕES NO COMUNICA SIG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7120" y="2357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Art. 2º - Orçamento Participativo do Distrito Federal - OPDF é o processo de participação direta da população na definição de prioridades das despesas em investimentos e serviços públicos executados pelo Governo do Distrito Feder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tiago.barbosa\Pictures\untitled.png"/>
          <p:cNvPicPr/>
          <p:nvPr/>
        </p:nvPicPr>
        <p:blipFill>
          <a:blip r:embed="rId2"/>
          <a:stretch/>
        </p:blipFill>
        <p:spPr>
          <a:xfrm>
            <a:off x="928800" y="714240"/>
            <a:ext cx="2447640" cy="1857600"/>
          </a:xfrm>
          <a:prstGeom prst="rect">
            <a:avLst/>
          </a:prstGeom>
          <a:ln w="0">
            <a:noFill/>
          </a:ln>
        </p:spPr>
      </p:pic>
      <p:sp>
        <p:nvSpPr>
          <p:cNvPr id="156" name="CaixaDeTexto 5"/>
          <p:cNvSpPr/>
          <p:nvPr/>
        </p:nvSpPr>
        <p:spPr>
          <a:xfrm>
            <a:off x="3571920" y="1000080"/>
            <a:ext cx="485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DECRETO N° 32.851,          DE 08 DE ABRIL DE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500040" y="357120"/>
          <a:ext cx="8072640" cy="6072120"/>
        </p:xfrm>
        <a:graphic>
          <a:graphicData uri="http://schemas.openxmlformats.org/drawingml/2006/table">
            <a:tbl>
              <a:tblPr/>
              <a:tblGrid>
                <a:gridCol w="5643720"/>
                <a:gridCol w="2428920"/>
              </a:tblGrid>
              <a:tr h="789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TAPAS DO PROCESSO DE ORÇAMENTO PARTICIP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AZOS ESTIM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18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paração interna do gove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vereiro - Març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meira rodada de Plenárias (Reuniões de Sensibilização e Preparação, uma em cada R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ço - Ab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gunda rodada de plenárias (plenárias nas diversas regiões das cidad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bril - Ma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óruns de Delegados das Cidades e Conselho do Orçamento Participativo do Distrito Federal (Trabalho de Priorização das Propostas e Consolidação do Plano de Investimentos do Orçamento Participativ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o - Ago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tapa de avaliação, revisão, definição e preparação da metodologia e do Regimento Interno para o ano segui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tembro - Dezemb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ítulo 1"/>
          <p:cNvSpPr/>
          <p:nvPr/>
        </p:nvSpPr>
        <p:spPr>
          <a:xfrm>
            <a:off x="1214280" y="1285920"/>
            <a:ext cx="6929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7e4bd"/>
                </a:solidFill>
                <a:latin typeface="Verdana"/>
                <a:ea typeface="Verdana"/>
              </a:rPr>
              <a:t>WWW.SEPLAN.DF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aixaDeTexto 4"/>
          <p:cNvSpPr/>
          <p:nvPr/>
        </p:nvSpPr>
        <p:spPr>
          <a:xfrm>
            <a:off x="785880" y="2214720"/>
            <a:ext cx="764388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ecretaria de Estado de Planejamento e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exo do Palácio do Buriti – 5º e 10º andar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lefones: 3961.1619 – FAX: 3223.53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-mail: orcamento@seplag.df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56800" y="642960"/>
            <a:ext cx="6900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PRINCIPAIS MODIFICAÇÕ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DESCRIÇÃO SUBTÍTUL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REGIONALIZA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FUN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IMPLICAÇÕES: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Série Históric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Referênc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Limite Codificaçõ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Ajustes Sistema SIGG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Integração PP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14200" y="642600"/>
            <a:ext cx="83584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Calibri"/>
              </a:rPr>
              <a:t>DESCRIÇÃO SUBTÍTUL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NOME DA AÇ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- LOCALIZAÇÃO OU ESPECIFICAÇÃO -      NOME DA REGIONALIZA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Nome da Ação</a:t>
            </a:r>
            <a:r>
              <a:rPr b="0" lang="pt-BR" sz="27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será repetido no subtítul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Localização ou Especificação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de caráter facultativo, é dada pelo     usuário quando do cadastro do subtítulo, visando indicar a localidade ou melhor detalhamento do subtítul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Nome da Regionalização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assume o nome da Região Administrativa definida quando do cadastramento do subtítul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tângulo 3"/>
          <p:cNvSpPr/>
          <p:nvPr/>
        </p:nvSpPr>
        <p:spPr>
          <a:xfrm>
            <a:off x="500040" y="1214280"/>
            <a:ext cx="8072640" cy="1000440"/>
          </a:xfrm>
          <a:prstGeom prst="rect">
            <a:avLst/>
          </a:prstGeom>
          <a:noFill/>
          <a:ln w="34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2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286480" cy="6000840"/>
          </a:xfrm>
          <a:prstGeom prst="rect">
            <a:avLst/>
          </a:prstGeom>
          <a:ln w="0">
            <a:noFill/>
          </a:ln>
        </p:spPr>
      </p:pic>
      <p:sp>
        <p:nvSpPr>
          <p:cNvPr id="75" name="Elipse 3"/>
          <p:cNvSpPr/>
          <p:nvPr/>
        </p:nvSpPr>
        <p:spPr>
          <a:xfrm>
            <a:off x="357120" y="2357280"/>
            <a:ext cx="1857600" cy="6429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lipse 4"/>
          <p:cNvSpPr/>
          <p:nvPr/>
        </p:nvSpPr>
        <p:spPr>
          <a:xfrm>
            <a:off x="428760" y="3429000"/>
            <a:ext cx="1285920" cy="3571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4:56:53Z</dcterms:created>
  <dc:creator>tiago.barbosa</dc:creator>
  <dc:description/>
  <dc:language>en-US</dc:language>
  <cp:lastModifiedBy>tiago.barbosa</cp:lastModifiedBy>
  <dcterms:modified xsi:type="dcterms:W3CDTF">2011-06-02T13:11:54Z</dcterms:modified>
  <cp:revision>184</cp:revision>
  <dc:subject/>
  <dc:title>PROCESSO DE ELABORAÇÃO DO ORÇAMENTO 2012 REUNIÃO INTERNA DE ABERTURA COORDENAÇÃODE ELABORAÇÃO E ACOMPANHAMENTO DO ORÇAMENTO</dc:title>
</cp:coreProperties>
</file>