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557-9D69-4A67-B7C0-2A14B882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9DE5-39C5-4AFC-97B3-5708F9DC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A03-422C-4208-95DD-B6728FEB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FC7-60E7-4708-BC3E-256C7326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CBCA-F904-4399-ACB7-02961991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DA4-DD48-41EA-86C8-465FEA18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E4E-58EF-486F-AA68-69D5B931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414-2D3D-49FA-B953-40FD3063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C2E-DF80-4F75-9B2E-9439BE50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A49-63BB-4A58-AA25-3668AFDB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2C9-080C-45A9-AE84-98BA7204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78C-5AA0-460D-8AF3-2AD7527F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BD5A-486D-4EDE-A096-0CE911889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990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90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250524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Lei nº 3.904, de 13/09/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6389640"/>
            <a:ext cx="61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Black"/>
              </a:rPr>
              <a:t>Publicação  DODF  –           Suplemento ao nº 177,                      de 14/09/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SETEMBRO DE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9200" y="163368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trito Fed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67040" y="631800"/>
          <a:ext cx="115236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7040" y="631800"/>
                    <a:ext cx="11523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05273-8</cp:lastModifiedBy>
  <dcterms:modified xsi:type="dcterms:W3CDTF">2006-09-20T15:28:32Z</dcterms:modified>
  <cp:revision>18</cp:revision>
  <dc:subject/>
  <dc:title>Slide 1</dc:title>
</cp:coreProperties>
</file>