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2288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06E7-B40A-419E-9D73-100A0A6F5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7CEA-AC8C-4363-AB36-D4DF4C5D4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90BB-3119-47B7-8C81-0B197CE49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C513-2A0C-4ECB-A60D-AE742C536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6E14-2837-4EAA-A5B1-BBE203D08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6769-A0CD-4F53-BD8B-C261C65DC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CC82-47AB-49FD-BE64-E2F4530E6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0C0B-012B-4537-B796-5589E5758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5642-9241-4F65-BB82-3369CEFB6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C15B-E56B-446C-AACF-DA3DCBACA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3945-CA73-437E-9387-49C1CE09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A797-372D-4752-A50D-DFF7E2B0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FD89D-D560-4ADA-8F99-87F8AF002B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160880"/>
            <a:ext cx="685800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LDO </a:t>
            </a:r>
            <a:r>
              <a:rPr b="0" lang="en-US" sz="60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200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 Black"/>
              </a:rPr>
              <a:t>Projeto de Le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-243000" y="863136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Arial Black"/>
              </a:rPr>
              <a:t>MAIO DE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6600" y="9201240"/>
            <a:ext cx="59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ff"/>
                </a:solidFill>
                <a:latin typeface="Arial"/>
              </a:rPr>
              <a:t>Brasília – Patrimônio Cultural da Humanida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581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581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65360" y="0"/>
            <a:ext cx="166392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2T14:57:14Z</dcterms:created>
  <dc:creator>441104</dc:creator>
  <dc:description/>
  <dc:language>en-US</dc:language>
  <cp:lastModifiedBy>humberto.junior</cp:lastModifiedBy>
  <dcterms:modified xsi:type="dcterms:W3CDTF">2007-05-11T19:53:31Z</dcterms:modified>
  <cp:revision>19</cp:revision>
  <dc:subject/>
  <dc:title>Slide 1</dc:title>
</cp:coreProperties>
</file>