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A8F-C6B5-4DDB-8030-D93711AA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F63-77A3-4320-9EA5-AEC47303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2177-4BBE-4D40-94FB-057B57B3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D17-29D5-4E77-9233-9BB241B0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44E-B5C7-4212-A074-21CCEDB3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DD2-4AA5-478A-BE1C-ADE6DA40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F91-FA76-43EF-9312-ED72069D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547-A813-4765-B844-A4C13C9B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C16-6D33-48A9-B1C6-30358095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687-B14B-47B5-881E-6905BCC1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C32-6D28-4CF1-97F6-5D19F137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1AE-4093-485A-A498-CDB016BB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E62B-8366-4D10-BEAD-5D35E30B4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16088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Projeto de 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MAIO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65360" y="0"/>
            <a:ext cx="166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humberto.junior</cp:lastModifiedBy>
  <dcterms:modified xsi:type="dcterms:W3CDTF">2007-05-11T19:53:31Z</dcterms:modified>
  <cp:revision>19</cp:revision>
  <dc:subject/>
  <dc:title>Slide 1</dc:title>
</cp:coreProperties>
</file>