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D068-653F-4FC4-BCF9-4E576C17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ADD1-6844-453C-9107-17A94286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600-EE58-4FFB-B58D-682FA87D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901-0677-41FC-B715-0EB5036C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BA6-5E38-4255-BF15-DFA2D993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0564-ACBB-4B72-BFB4-84E358F0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DAB-6221-4553-9DE3-974921D7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5E8-DFD4-432C-A83F-92192B3A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626-8126-408F-9BDE-B7599A9D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8F4-AAD4-41BA-9CB4-5059B567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2AC-0D89-43C4-BE3D-74AED07E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F7E-0E1D-4999-A47E-96C6C9FF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DA61-5871-4A02-AA6D-D7AB15050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990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90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250524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Lei nº 3.904, de 13/09/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6389640"/>
            <a:ext cx="61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Black"/>
              </a:rPr>
              <a:t>Publicação  DODF  –           Suplemento ao nº 177,                      de 14/09/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SETEMBRO D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9200" y="163368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trito 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67040" y="631800"/>
          <a:ext cx="115236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7040" y="631800"/>
                    <a:ext cx="11523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05273-8</cp:lastModifiedBy>
  <dcterms:modified xsi:type="dcterms:W3CDTF">2006-09-20T15:28:32Z</dcterms:modified>
  <cp:revision>18</cp:revision>
  <dc:subject/>
  <dc:title>Slide 1</dc:title>
</cp:coreProperties>
</file>