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872-3A66-4A84-BC3E-4A3C0723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D51-E6C3-4B63-9CFC-4BF686AB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242-1D7A-4284-BEE8-00BA0CD5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DCD-E306-40C0-B490-566775FB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58AF-A5B0-47F8-AABE-CFEF85BE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229-E95B-4B17-ABBB-35E64F52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D17-7295-4072-AA78-1BC6A228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2D6-C6B1-4070-9500-1F73E336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735-C9BC-4A62-9324-95436960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FA9-6E30-42A9-947E-8B1CE5D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88B-BBFF-4993-BD2E-ED11F985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892-F58B-4E6F-A274-EF08CD7B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5C54-BFB0-4479-B19E-A5782D411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16088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Projeto de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MAIO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65360" y="0"/>
            <a:ext cx="166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humberto.junior</cp:lastModifiedBy>
  <dcterms:modified xsi:type="dcterms:W3CDTF">2007-05-11T19:53:31Z</dcterms:modified>
  <cp:revision>19</cp:revision>
  <dc:subject/>
  <dc:title>Slide 1</dc:title>
</cp:coreProperties>
</file>